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CFEBB-8D98-409F-9FBF-43EA3D888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4956B-CE59-4059-9F70-E4630489B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CCA23-983E-4062-902B-9BBC0CB5E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F6520-706A-4C30-8D0D-6D98B7C74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BB2D3-BB3D-44CF-A866-2C885228F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84C56-52DA-4C51-BF63-A00F8175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A812A-A3CC-4B5A-A805-B8480C2C6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AF14A-3D64-4A62-A80E-987136B40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A44C9-12B5-4A37-8ECB-41C8BC40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79F8-8C6C-456B-88BA-2B6747486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AD62-ED22-4938-A258-6C21EE2C8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E8C7C-2711-4594-B531-660A1B842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657E-ECD6-4FEE-8051-B1D30894A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Octo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Conceptions of Politic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es justice play in Cleon and Diodotus' speeches on the Mytilenian debate? What role does justice play in Thucydides’ view of international re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Melian debate. Does Thucydides sympathize with the Melian, the Athenian, or neither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Conceptions of Politi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Aristotle mean by saying that the state is natural?  What is the difference between this view of the state and the view that the state is a kind of social con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natural slave? Does Aristotle think that natural slaves ex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Aristotle condemn or defend democracy? What role can “the many” play in political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Wa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necessary for a war to be just? Would those conditions be found in a contemporary case, e.g., Iraq?</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rasmus’ challenge to just war theory? Does Erasmus deny that there can be just w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key just causes of war in the conquest of the Americas, for Vitoria? Does Vitoria believe the Spanish are justified in waging war against the natives of the Amer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Conceptions of Politic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stitutes a free regime, according to Machiavelli? Why are such regimes desirable for Machiavelli? Is Machiavelli’s advocacy of free regimes consistent with his advice to pri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Machiavelli’s recommendations to the aspiring prince? Are these recommendations consistent with good gover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a dictator like Hitler or Stalin earn Machiavelli's praise? Why or why 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e state of nature a state of war in Hobbes? Why is morality impossible i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sovereign authority the only possible solution to Hobbes’ state of nature? Given his assumptions about human nature, is his solution plau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Rousseau's objections to Hobbes' description of the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roots of conflict and war, for Rousse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 and Intervent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Mill mean by saying that some people are "civilized" and others are not? What is the implication of this distinction for international rel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es Mill think that imperial government can sometimes help another country? Under what conditions is this claim true, for Mill? Critically evaluate his arguments for benevolent imper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al Peac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Kant mean by a "federation" of states? Why is a "federation" of states, and not a world state, required for world peace? Why does Kant think a world state is undesir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 Kant think that perpetual peace is possible even if men are not naturally goo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Hegel's criticisms of Kant's proposal for a perpetual pe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Hegel believe that war is always negative? Or does he think that war can be positive? Wh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Hegel and Marx's view of history. Where does history lead, according to Hegel? Where does it lead according to Marx? What are the mechanisms of his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7:41:43Z</dcterms:created>
  <dc:creator>Xavier Marquez</dc:creator>
  <dc:description/>
  <dc:language>en-US</dc:language>
  <cp:lastModifiedBy>Full Name</cp:lastModifiedBy>
  <dcterms:modified xsi:type="dcterms:W3CDTF">2008-10-07T20:51:32Z</dcterms:modified>
  <cp:revision>3</cp:revision>
  <dc:subject/>
  <dc:title>Review</dc:title>
</cp:coreProperties>
</file>